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E51-38D3-44A5-8279-A9EA1B23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8BA-CD3B-45B6-8EDA-BE2F14E2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255-4010-4D8B-B0D9-F8B7BEE9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06A-978A-4B90-B9DE-9438CCA8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78D-47F9-4DDD-A823-4CC6E428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FB8-671E-449B-A424-86D73ED3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E11-25C1-49AA-BE38-BA474D36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FE7-0394-439B-9067-34D9C18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349-0BE7-41E0-A3A9-3EFF2D7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8BF-C48E-4895-83E1-286AFEE0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B41-D27A-4D18-96F2-DB71723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29A-A889-4074-AF64-D60022B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D417-5F5D-437F-A9E5-DE900C3251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286000" y="2924280"/>
            <a:ext cx="457200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商不变的性质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9640" y="620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岛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0" y="549360"/>
            <a:ext cx="78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仔细观察，认真巧算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72040" y="2637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÷9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82600" y="3573360"/>
            <a:ext cx="19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0÷9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0" y="45813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00÷90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596040" y="270828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÷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306960" y="3573360"/>
            <a:ext cx="19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0÷3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691680" y="263700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÷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090240" y="450864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00÷30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475680" y="3573360"/>
            <a:ext cx="19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0÷4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6258960" y="450864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00÷40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2052360" y="263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197080" y="357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2557440" y="4581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004720" y="2708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5220720" y="35733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5435640" y="450864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8101080" y="2637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8459640" y="3573360"/>
            <a:ext cx="8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8604360" y="450864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d00"/>
                </a:solidFill>
                <a:latin typeface="Calibri"/>
              </a:rPr>
              <a:t>找规律填表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11280" y="2060640"/>
          <a:ext cx="6051600" cy="2448000"/>
        </p:xfrm>
        <a:graphic>
          <a:graphicData uri="http://schemas.openxmlformats.org/drawingml/2006/table">
            <a:tbl>
              <a:tblPr/>
              <a:tblGrid>
                <a:gridCol w="1296720"/>
                <a:gridCol w="792360"/>
                <a:gridCol w="722160"/>
                <a:gridCol w="792360"/>
                <a:gridCol w="863640"/>
                <a:gridCol w="792000"/>
                <a:gridCol w="79236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被除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除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61" name="Text Box 42"/>
          <p:cNvSpPr/>
          <p:nvPr/>
        </p:nvSpPr>
        <p:spPr>
          <a:xfrm>
            <a:off x="2124000" y="37893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845080" y="37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637080" y="37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5"/>
          <p:cNvSpPr/>
          <p:nvPr/>
        </p:nvSpPr>
        <p:spPr>
          <a:xfrm>
            <a:off x="4429440" y="37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6"/>
          <p:cNvSpPr/>
          <p:nvPr/>
        </p:nvSpPr>
        <p:spPr>
          <a:xfrm>
            <a:off x="5221440" y="37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7"/>
          <p:cNvSpPr/>
          <p:nvPr/>
        </p:nvSpPr>
        <p:spPr>
          <a:xfrm>
            <a:off x="6013800" y="37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390384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072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5078880" y="2276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5942160" y="3068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055c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Calibri"/>
              </a:rPr>
              <a:t>找思路巧解题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19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00÷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=﹙200×4﹚÷﹙25×4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=800÷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=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11280" y="350028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500 ÷25         700÷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684360" y="436572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00÷50         400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50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395280" y="5300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4000 ÷125    2000÷1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知识拓展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360" y="1484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1" lang="zh-CN" sz="4100" spc="-1" strike="noStrike">
                <a:solidFill>
                  <a:srgbClr val="ff3300"/>
                </a:solidFill>
                <a:latin typeface="Calibri"/>
              </a:rPr>
              <a:t>根据</a:t>
            </a:r>
            <a:r>
              <a:rPr b="1" lang="en-US" sz="4100" spc="-1" strike="noStrike">
                <a:solidFill>
                  <a:srgbClr val="ff3300"/>
                </a:solidFill>
                <a:latin typeface="Calibri"/>
              </a:rPr>
              <a:t>864÷24=36</a:t>
            </a:r>
            <a:r>
              <a:rPr b="1" lang="zh-CN" sz="4100" spc="-1" strike="noStrike">
                <a:solidFill>
                  <a:srgbClr val="ff3300"/>
                </a:solidFill>
                <a:latin typeface="Calibri"/>
              </a:rPr>
              <a:t>，你能直接写出下面算式的结果吗？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492360" y="3068640"/>
            <a:ext cx="295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864÷1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864÷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864÷96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867280" y="3068640"/>
            <a:ext cx="2951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16÷2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432÷2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108÷2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971640" y="3068640"/>
            <a:ext cx="2374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ff"/>
              </a:buClr>
              <a:buFont typeface="Arial"/>
              <a:buAutoNum type="arabicPlain" startAt="4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÷1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ff"/>
              </a:buClr>
              <a:buFont typeface="Arial"/>
              <a:buAutoNum type="arabicPlain" startAt="2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÷6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08 ÷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3"/>
          <p:cNvSpPr txBox="1"/>
          <p:nvPr/>
        </p:nvSpPr>
        <p:spPr>
          <a:xfrm>
            <a:off x="826920" y="1052640"/>
            <a:ext cx="713448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有什么收获？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042920" y="256536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认真观察、仔细比较、大胆猜想、善于总结、实践验证、灵活应用会帮助我们学好数学，而且它们也是非常好的学习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556000" y="76500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03280" y="2852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本节课我们主要来学习商不变的性质，同学们要结合猴子分桃的实际例子理解并掌握商不变的规律，并且能够熟练应用商不变的规律解决实际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猴子图3"/>
          <p:cNvPicPr/>
          <p:nvPr/>
        </p:nvPicPr>
        <p:blipFill>
          <a:blip r:embed="rId1"/>
          <a:srcRect l="8819" t="8702" r="6778" b="5525"/>
          <a:stretch/>
        </p:blipFill>
        <p:spPr>
          <a:xfrm>
            <a:off x="4356000" y="3462480"/>
            <a:ext cx="4788000" cy="33955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"/>
          <p:cNvGrpSpPr/>
          <p:nvPr/>
        </p:nvGrpSpPr>
        <p:grpSpPr>
          <a:xfrm>
            <a:off x="2756160" y="5805360"/>
            <a:ext cx="466200" cy="514080"/>
            <a:chOff x="2756160" y="5805360"/>
            <a:chExt cx="466200" cy="514080"/>
          </a:xfrm>
        </p:grpSpPr>
        <p:sp>
          <p:nvSpPr>
            <p:cNvPr id="47" name="Freeform 4"/>
            <p:cNvSpPr/>
            <p:nvPr/>
          </p:nvSpPr>
          <p:spPr>
            <a:xfrm>
              <a:off x="2901600" y="580536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 rot="11067600">
              <a:off x="2771640" y="589572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1067600">
              <a:off x="2895840" y="583704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7"/>
          <p:cNvGrpSpPr/>
          <p:nvPr/>
        </p:nvGrpSpPr>
        <p:grpSpPr>
          <a:xfrm>
            <a:off x="452880" y="5662440"/>
            <a:ext cx="466200" cy="514080"/>
            <a:chOff x="452880" y="5662440"/>
            <a:chExt cx="466200" cy="514080"/>
          </a:xfrm>
        </p:grpSpPr>
        <p:sp>
          <p:nvSpPr>
            <p:cNvPr id="51" name="Freeform 8"/>
            <p:cNvSpPr/>
            <p:nvPr/>
          </p:nvSpPr>
          <p:spPr>
            <a:xfrm>
              <a:off x="598320" y="566244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 rot="11067600">
              <a:off x="468360" y="575280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 rot="11067600">
              <a:off x="592560" y="569412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1"/>
          <p:cNvGrpSpPr/>
          <p:nvPr/>
        </p:nvGrpSpPr>
        <p:grpSpPr>
          <a:xfrm>
            <a:off x="308880" y="5662440"/>
            <a:ext cx="682920" cy="564840"/>
            <a:chOff x="308880" y="5662440"/>
            <a:chExt cx="682920" cy="564840"/>
          </a:xfrm>
        </p:grpSpPr>
        <p:sp>
          <p:nvSpPr>
            <p:cNvPr id="55" name="Freeform 12"/>
            <p:cNvSpPr/>
            <p:nvPr/>
          </p:nvSpPr>
          <p:spPr>
            <a:xfrm>
              <a:off x="519840" y="566244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 rot="11067600">
              <a:off x="325440" y="5760720"/>
              <a:ext cx="378720" cy="442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 rot="11067600">
              <a:off x="511200" y="5697360"/>
              <a:ext cx="461160" cy="5126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5"/>
          <p:cNvGrpSpPr/>
          <p:nvPr/>
        </p:nvGrpSpPr>
        <p:grpSpPr>
          <a:xfrm>
            <a:off x="1387800" y="5950080"/>
            <a:ext cx="466200" cy="514080"/>
            <a:chOff x="1387800" y="5950080"/>
            <a:chExt cx="466200" cy="514080"/>
          </a:xfrm>
        </p:grpSpPr>
        <p:sp>
          <p:nvSpPr>
            <p:cNvPr id="59" name="Freeform 16"/>
            <p:cNvSpPr/>
            <p:nvPr/>
          </p:nvSpPr>
          <p:spPr>
            <a:xfrm>
              <a:off x="1533240" y="595008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 rot="11067600">
              <a:off x="1403280" y="604044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 rot="11067600">
              <a:off x="1527480" y="598176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9"/>
          <p:cNvGrpSpPr/>
          <p:nvPr/>
        </p:nvGrpSpPr>
        <p:grpSpPr>
          <a:xfrm>
            <a:off x="1316520" y="5661000"/>
            <a:ext cx="466200" cy="514080"/>
            <a:chOff x="1316520" y="5661000"/>
            <a:chExt cx="466200" cy="514080"/>
          </a:xfrm>
        </p:grpSpPr>
        <p:sp>
          <p:nvSpPr>
            <p:cNvPr id="63" name="Freeform 20"/>
            <p:cNvSpPr/>
            <p:nvPr/>
          </p:nvSpPr>
          <p:spPr>
            <a:xfrm>
              <a:off x="1461960" y="566100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 rot="11067600">
              <a:off x="1332000" y="575136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 rot="11067600">
              <a:off x="1456200" y="569268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3"/>
          <p:cNvGrpSpPr/>
          <p:nvPr/>
        </p:nvGrpSpPr>
        <p:grpSpPr>
          <a:xfrm>
            <a:off x="524880" y="5446800"/>
            <a:ext cx="682920" cy="564120"/>
            <a:chOff x="524880" y="5446800"/>
            <a:chExt cx="682920" cy="564120"/>
          </a:xfrm>
        </p:grpSpPr>
        <p:sp>
          <p:nvSpPr>
            <p:cNvPr id="67" name="Freeform 24"/>
            <p:cNvSpPr/>
            <p:nvPr/>
          </p:nvSpPr>
          <p:spPr>
            <a:xfrm>
              <a:off x="735840" y="544680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 rot="11067600">
              <a:off x="541440" y="554436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 rot="11067600">
              <a:off x="727200" y="5481360"/>
              <a:ext cx="46116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7"/>
          <p:cNvGrpSpPr/>
          <p:nvPr/>
        </p:nvGrpSpPr>
        <p:grpSpPr>
          <a:xfrm>
            <a:off x="1026360" y="5445000"/>
            <a:ext cx="682920" cy="564840"/>
            <a:chOff x="1026360" y="5445000"/>
            <a:chExt cx="682920" cy="564840"/>
          </a:xfrm>
        </p:grpSpPr>
        <p:sp>
          <p:nvSpPr>
            <p:cNvPr id="71" name="Freeform 28"/>
            <p:cNvSpPr/>
            <p:nvPr/>
          </p:nvSpPr>
          <p:spPr>
            <a:xfrm>
              <a:off x="1237320" y="544500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 rot="11067600">
              <a:off x="1042920" y="5543280"/>
              <a:ext cx="378720" cy="442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 rot="11067600">
              <a:off x="1228680" y="5479920"/>
              <a:ext cx="461160" cy="5126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1"/>
          <p:cNvGrpSpPr/>
          <p:nvPr/>
        </p:nvGrpSpPr>
        <p:grpSpPr>
          <a:xfrm>
            <a:off x="1100520" y="6237360"/>
            <a:ext cx="466200" cy="514080"/>
            <a:chOff x="1100520" y="6237360"/>
            <a:chExt cx="466200" cy="514080"/>
          </a:xfrm>
        </p:grpSpPr>
        <p:sp>
          <p:nvSpPr>
            <p:cNvPr id="75" name="Freeform 32"/>
            <p:cNvSpPr/>
            <p:nvPr/>
          </p:nvSpPr>
          <p:spPr>
            <a:xfrm>
              <a:off x="1245960" y="623736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 rot="11067600">
              <a:off x="1116000" y="632772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 rot="11067600">
              <a:off x="1240200" y="626904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35"/>
          <p:cNvGrpSpPr/>
          <p:nvPr/>
        </p:nvGrpSpPr>
        <p:grpSpPr>
          <a:xfrm>
            <a:off x="1603800" y="6237360"/>
            <a:ext cx="466200" cy="514080"/>
            <a:chOff x="1603800" y="6237360"/>
            <a:chExt cx="466200" cy="514080"/>
          </a:xfrm>
        </p:grpSpPr>
        <p:sp>
          <p:nvSpPr>
            <p:cNvPr id="79" name="Freeform 36"/>
            <p:cNvSpPr/>
            <p:nvPr/>
          </p:nvSpPr>
          <p:spPr>
            <a:xfrm>
              <a:off x="1749240" y="623736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 rot="11067600">
              <a:off x="1619280" y="632772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 rot="11067600">
              <a:off x="1743480" y="626904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9"/>
          <p:cNvGrpSpPr/>
          <p:nvPr/>
        </p:nvGrpSpPr>
        <p:grpSpPr>
          <a:xfrm>
            <a:off x="1316880" y="5662440"/>
            <a:ext cx="682920" cy="564840"/>
            <a:chOff x="1316880" y="5662440"/>
            <a:chExt cx="682920" cy="564840"/>
          </a:xfrm>
        </p:grpSpPr>
        <p:sp>
          <p:nvSpPr>
            <p:cNvPr id="83" name="Freeform 40"/>
            <p:cNvSpPr/>
            <p:nvPr/>
          </p:nvSpPr>
          <p:spPr>
            <a:xfrm>
              <a:off x="1527840" y="566244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 rot="11067600">
              <a:off x="1333440" y="5760720"/>
              <a:ext cx="378720" cy="442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 rot="11067600">
              <a:off x="1519200" y="5697360"/>
              <a:ext cx="461160" cy="5126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3"/>
          <p:cNvGrpSpPr/>
          <p:nvPr/>
        </p:nvGrpSpPr>
        <p:grpSpPr>
          <a:xfrm>
            <a:off x="2395800" y="5950080"/>
            <a:ext cx="466200" cy="514080"/>
            <a:chOff x="2395800" y="5950080"/>
            <a:chExt cx="466200" cy="514080"/>
          </a:xfrm>
        </p:grpSpPr>
        <p:sp>
          <p:nvSpPr>
            <p:cNvPr id="87" name="Freeform 44"/>
            <p:cNvSpPr/>
            <p:nvPr/>
          </p:nvSpPr>
          <p:spPr>
            <a:xfrm>
              <a:off x="2541240" y="595008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 rot="11067600">
              <a:off x="2411280" y="604044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 rot="11067600">
              <a:off x="2535480" y="598176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2752920" y="5661000"/>
            <a:ext cx="466200" cy="514080"/>
            <a:chOff x="2752920" y="5661000"/>
            <a:chExt cx="466200" cy="514080"/>
          </a:xfrm>
        </p:grpSpPr>
        <p:sp>
          <p:nvSpPr>
            <p:cNvPr id="91" name="Freeform 48"/>
            <p:cNvSpPr/>
            <p:nvPr/>
          </p:nvSpPr>
          <p:spPr>
            <a:xfrm>
              <a:off x="2898720" y="566100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 rot="11067600">
              <a:off x="2768400" y="5751360"/>
              <a:ext cx="25308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 rot="11067600">
              <a:off x="2892600" y="569268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51"/>
          <p:cNvGrpSpPr/>
          <p:nvPr/>
        </p:nvGrpSpPr>
        <p:grpSpPr>
          <a:xfrm>
            <a:off x="2251440" y="6165720"/>
            <a:ext cx="466200" cy="514080"/>
            <a:chOff x="2251440" y="6165720"/>
            <a:chExt cx="466200" cy="514080"/>
          </a:xfrm>
        </p:grpSpPr>
        <p:sp>
          <p:nvSpPr>
            <p:cNvPr id="95" name="Freeform 52"/>
            <p:cNvSpPr/>
            <p:nvPr/>
          </p:nvSpPr>
          <p:spPr>
            <a:xfrm>
              <a:off x="2396880" y="616572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 rot="11067600">
              <a:off x="2266920" y="625608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 rot="11067600">
              <a:off x="2391120" y="619740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5"/>
          <p:cNvGrpSpPr/>
          <p:nvPr/>
        </p:nvGrpSpPr>
        <p:grpSpPr>
          <a:xfrm>
            <a:off x="2754720" y="6165720"/>
            <a:ext cx="466200" cy="514080"/>
            <a:chOff x="2754720" y="6165720"/>
            <a:chExt cx="466200" cy="514080"/>
          </a:xfrm>
        </p:grpSpPr>
        <p:sp>
          <p:nvSpPr>
            <p:cNvPr id="99" name="Freeform 56"/>
            <p:cNvSpPr/>
            <p:nvPr/>
          </p:nvSpPr>
          <p:spPr>
            <a:xfrm>
              <a:off x="2900160" y="616572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 rot="11067600">
              <a:off x="2770200" y="625608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 rot="11067600">
              <a:off x="2894400" y="619740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59"/>
          <p:cNvGrpSpPr/>
          <p:nvPr/>
        </p:nvGrpSpPr>
        <p:grpSpPr>
          <a:xfrm>
            <a:off x="3188160" y="5878440"/>
            <a:ext cx="466200" cy="514080"/>
            <a:chOff x="3188160" y="5878440"/>
            <a:chExt cx="466200" cy="514080"/>
          </a:xfrm>
        </p:grpSpPr>
        <p:sp>
          <p:nvSpPr>
            <p:cNvPr id="103" name="Freeform 60"/>
            <p:cNvSpPr/>
            <p:nvPr/>
          </p:nvSpPr>
          <p:spPr>
            <a:xfrm>
              <a:off x="3333600" y="587844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 rot="11067600">
              <a:off x="3203640" y="596880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 rot="11067600">
              <a:off x="3327840" y="591012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63"/>
          <p:cNvGrpSpPr/>
          <p:nvPr/>
        </p:nvGrpSpPr>
        <p:grpSpPr>
          <a:xfrm>
            <a:off x="3689640" y="5877000"/>
            <a:ext cx="466200" cy="514080"/>
            <a:chOff x="3689640" y="5877000"/>
            <a:chExt cx="466200" cy="514080"/>
          </a:xfrm>
        </p:grpSpPr>
        <p:sp>
          <p:nvSpPr>
            <p:cNvPr id="107" name="Freeform 64"/>
            <p:cNvSpPr/>
            <p:nvPr/>
          </p:nvSpPr>
          <p:spPr>
            <a:xfrm>
              <a:off x="3835080" y="587700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 rot="11067600">
              <a:off x="3705120" y="596736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 rot="11067600">
              <a:off x="3829320" y="590868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7"/>
          <p:cNvGrpSpPr/>
          <p:nvPr/>
        </p:nvGrpSpPr>
        <p:grpSpPr>
          <a:xfrm>
            <a:off x="2612520" y="6094440"/>
            <a:ext cx="682920" cy="564120"/>
            <a:chOff x="2612520" y="6094440"/>
            <a:chExt cx="682920" cy="564120"/>
          </a:xfrm>
        </p:grpSpPr>
        <p:sp>
          <p:nvSpPr>
            <p:cNvPr id="111" name="Freeform 68"/>
            <p:cNvSpPr/>
            <p:nvPr/>
          </p:nvSpPr>
          <p:spPr>
            <a:xfrm>
              <a:off x="2823480" y="609444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 rot="11067600">
              <a:off x="2629080" y="619200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 rot="11067600">
              <a:off x="2814840" y="6129000"/>
              <a:ext cx="46116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1"/>
          <p:cNvGrpSpPr/>
          <p:nvPr/>
        </p:nvGrpSpPr>
        <p:grpSpPr>
          <a:xfrm>
            <a:off x="3548520" y="6354720"/>
            <a:ext cx="466200" cy="514080"/>
            <a:chOff x="3548520" y="6354720"/>
            <a:chExt cx="466200" cy="514080"/>
          </a:xfrm>
        </p:grpSpPr>
        <p:sp>
          <p:nvSpPr>
            <p:cNvPr id="115" name="Freeform 72"/>
            <p:cNvSpPr/>
            <p:nvPr/>
          </p:nvSpPr>
          <p:spPr>
            <a:xfrm>
              <a:off x="3693960" y="635472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 rot="11067600">
              <a:off x="3564000" y="644508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 rot="11067600">
              <a:off x="3688200" y="638640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5"/>
          <p:cNvGrpSpPr/>
          <p:nvPr/>
        </p:nvGrpSpPr>
        <p:grpSpPr>
          <a:xfrm>
            <a:off x="3115440" y="5373720"/>
            <a:ext cx="610200" cy="561960"/>
            <a:chOff x="3115440" y="5373720"/>
            <a:chExt cx="610200" cy="561960"/>
          </a:xfrm>
        </p:grpSpPr>
        <p:sp>
          <p:nvSpPr>
            <p:cNvPr id="119" name="Freeform 76"/>
            <p:cNvSpPr/>
            <p:nvPr/>
          </p:nvSpPr>
          <p:spPr>
            <a:xfrm>
              <a:off x="3304440" y="5373720"/>
              <a:ext cx="6912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 rot="11067600">
              <a:off x="3132000" y="5471280"/>
              <a:ext cx="33624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 rot="11067600">
              <a:off x="3296880" y="5407920"/>
              <a:ext cx="40932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79"/>
          <p:cNvGrpSpPr/>
          <p:nvPr/>
        </p:nvGrpSpPr>
        <p:grpSpPr>
          <a:xfrm>
            <a:off x="3618360" y="5300640"/>
            <a:ext cx="540720" cy="560160"/>
            <a:chOff x="3618360" y="5300640"/>
            <a:chExt cx="540720" cy="560160"/>
          </a:xfrm>
        </p:grpSpPr>
        <p:sp>
          <p:nvSpPr>
            <p:cNvPr id="123" name="Freeform 80"/>
            <p:cNvSpPr/>
            <p:nvPr/>
          </p:nvSpPr>
          <p:spPr>
            <a:xfrm>
              <a:off x="3786840" y="5300640"/>
              <a:ext cx="6084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 rot="11067600">
              <a:off x="3635280" y="5398200"/>
              <a:ext cx="29520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 rot="11067600">
              <a:off x="3779640" y="5335200"/>
              <a:ext cx="35964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83"/>
          <p:cNvGrpSpPr/>
          <p:nvPr/>
        </p:nvGrpSpPr>
        <p:grpSpPr>
          <a:xfrm>
            <a:off x="3476880" y="6094440"/>
            <a:ext cx="466200" cy="514080"/>
            <a:chOff x="3476880" y="6094440"/>
            <a:chExt cx="466200" cy="514080"/>
          </a:xfrm>
        </p:grpSpPr>
        <p:sp>
          <p:nvSpPr>
            <p:cNvPr id="127" name="Freeform 84"/>
            <p:cNvSpPr/>
            <p:nvPr/>
          </p:nvSpPr>
          <p:spPr>
            <a:xfrm>
              <a:off x="3622320" y="609444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 rot="11067600">
              <a:off x="3492360" y="618480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6"/>
            <p:cNvSpPr/>
            <p:nvPr/>
          </p:nvSpPr>
          <p:spPr>
            <a:xfrm rot="11067600">
              <a:off x="3616560" y="612612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7"/>
          <p:cNvGrpSpPr/>
          <p:nvPr/>
        </p:nvGrpSpPr>
        <p:grpSpPr>
          <a:xfrm>
            <a:off x="3620880" y="5734080"/>
            <a:ext cx="606960" cy="488880"/>
            <a:chOff x="3620880" y="5734080"/>
            <a:chExt cx="606960" cy="488880"/>
          </a:xfrm>
        </p:grpSpPr>
        <p:sp>
          <p:nvSpPr>
            <p:cNvPr id="131" name="Freeform 88"/>
            <p:cNvSpPr/>
            <p:nvPr/>
          </p:nvSpPr>
          <p:spPr>
            <a:xfrm>
              <a:off x="3808080" y="5734080"/>
              <a:ext cx="69480" cy="10764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9"/>
            <p:cNvSpPr/>
            <p:nvPr/>
          </p:nvSpPr>
          <p:spPr>
            <a:xfrm rot="11067600">
              <a:off x="3634920" y="5819040"/>
              <a:ext cx="336960" cy="3834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0"/>
            <p:cNvSpPr/>
            <p:nvPr/>
          </p:nvSpPr>
          <p:spPr>
            <a:xfrm rot="11067600">
              <a:off x="3800520" y="5763600"/>
              <a:ext cx="410400" cy="443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1"/>
          <p:cNvGrpSpPr/>
          <p:nvPr/>
        </p:nvGrpSpPr>
        <p:grpSpPr>
          <a:xfrm>
            <a:off x="1747080" y="5877000"/>
            <a:ext cx="682920" cy="564120"/>
            <a:chOff x="1747080" y="5877000"/>
            <a:chExt cx="682920" cy="564120"/>
          </a:xfrm>
        </p:grpSpPr>
        <p:sp>
          <p:nvSpPr>
            <p:cNvPr id="135" name="Freeform 92"/>
            <p:cNvSpPr/>
            <p:nvPr/>
          </p:nvSpPr>
          <p:spPr>
            <a:xfrm>
              <a:off x="1958040" y="587700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3"/>
            <p:cNvSpPr/>
            <p:nvPr/>
          </p:nvSpPr>
          <p:spPr>
            <a:xfrm rot="11067600">
              <a:off x="1763640" y="597456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4"/>
            <p:cNvSpPr/>
            <p:nvPr/>
          </p:nvSpPr>
          <p:spPr>
            <a:xfrm rot="11067600">
              <a:off x="1949400" y="5911560"/>
              <a:ext cx="46116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95"/>
          <p:cNvGrpSpPr/>
          <p:nvPr/>
        </p:nvGrpSpPr>
        <p:grpSpPr>
          <a:xfrm>
            <a:off x="3043440" y="6354720"/>
            <a:ext cx="466200" cy="514080"/>
            <a:chOff x="3043440" y="6354720"/>
            <a:chExt cx="466200" cy="514080"/>
          </a:xfrm>
        </p:grpSpPr>
        <p:sp>
          <p:nvSpPr>
            <p:cNvPr id="139" name="Freeform 96"/>
            <p:cNvSpPr/>
            <p:nvPr/>
          </p:nvSpPr>
          <p:spPr>
            <a:xfrm>
              <a:off x="3189240" y="635472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7"/>
            <p:cNvSpPr/>
            <p:nvPr/>
          </p:nvSpPr>
          <p:spPr>
            <a:xfrm rot="11067600">
              <a:off x="3058920" y="6445080"/>
              <a:ext cx="25308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8"/>
            <p:cNvSpPr/>
            <p:nvPr/>
          </p:nvSpPr>
          <p:spPr>
            <a:xfrm rot="11067600">
              <a:off x="3183120" y="638640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99"/>
          <p:cNvGrpSpPr/>
          <p:nvPr/>
        </p:nvGrpSpPr>
        <p:grpSpPr>
          <a:xfrm>
            <a:off x="740160" y="6354720"/>
            <a:ext cx="466200" cy="514080"/>
            <a:chOff x="740160" y="6354720"/>
            <a:chExt cx="466200" cy="514080"/>
          </a:xfrm>
        </p:grpSpPr>
        <p:sp>
          <p:nvSpPr>
            <p:cNvPr id="143" name="Freeform 100"/>
            <p:cNvSpPr/>
            <p:nvPr/>
          </p:nvSpPr>
          <p:spPr>
            <a:xfrm>
              <a:off x="885600" y="635472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 rot="11067600">
              <a:off x="755640" y="644508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2"/>
            <p:cNvSpPr/>
            <p:nvPr/>
          </p:nvSpPr>
          <p:spPr>
            <a:xfrm rot="11067600">
              <a:off x="879840" y="638640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03"/>
          <p:cNvGrpSpPr/>
          <p:nvPr/>
        </p:nvGrpSpPr>
        <p:grpSpPr>
          <a:xfrm>
            <a:off x="882000" y="5805360"/>
            <a:ext cx="468000" cy="585720"/>
            <a:chOff x="882000" y="5805360"/>
            <a:chExt cx="468000" cy="585720"/>
          </a:xfrm>
        </p:grpSpPr>
        <p:sp>
          <p:nvSpPr>
            <p:cNvPr id="147" name="Freeform 104"/>
            <p:cNvSpPr/>
            <p:nvPr/>
          </p:nvSpPr>
          <p:spPr>
            <a:xfrm>
              <a:off x="1029240" y="5805360"/>
              <a:ext cx="51840" cy="13068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5"/>
            <p:cNvSpPr/>
            <p:nvPr/>
          </p:nvSpPr>
          <p:spPr>
            <a:xfrm rot="11067600">
              <a:off x="899640" y="5908320"/>
              <a:ext cx="251640" cy="4644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6"/>
            <p:cNvSpPr/>
            <p:nvPr/>
          </p:nvSpPr>
          <p:spPr>
            <a:xfrm rot="11067600">
              <a:off x="1023120" y="5841720"/>
              <a:ext cx="306360" cy="5382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07"/>
          <p:cNvGrpSpPr/>
          <p:nvPr/>
        </p:nvGrpSpPr>
        <p:grpSpPr>
          <a:xfrm>
            <a:off x="-14760" y="5516640"/>
            <a:ext cx="535680" cy="489240"/>
            <a:chOff x="-14760" y="5516640"/>
            <a:chExt cx="535680" cy="489240"/>
          </a:xfrm>
        </p:grpSpPr>
        <p:sp>
          <p:nvSpPr>
            <p:cNvPr id="151" name="Freeform 108"/>
            <p:cNvSpPr/>
            <p:nvPr/>
          </p:nvSpPr>
          <p:spPr>
            <a:xfrm>
              <a:off x="151560" y="5516640"/>
              <a:ext cx="60840" cy="1080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9"/>
            <p:cNvSpPr/>
            <p:nvPr/>
          </p:nvSpPr>
          <p:spPr>
            <a:xfrm rot="11067600">
              <a:off x="0" y="5601600"/>
              <a:ext cx="295200" cy="3848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0"/>
            <p:cNvSpPr/>
            <p:nvPr/>
          </p:nvSpPr>
          <p:spPr>
            <a:xfrm rot="11067600">
              <a:off x="144720" y="5546880"/>
              <a:ext cx="359280" cy="4456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11"/>
          <p:cNvGrpSpPr/>
          <p:nvPr/>
        </p:nvGrpSpPr>
        <p:grpSpPr>
          <a:xfrm>
            <a:off x="1459080" y="6308640"/>
            <a:ext cx="466200" cy="514080"/>
            <a:chOff x="1459080" y="6308640"/>
            <a:chExt cx="466200" cy="514080"/>
          </a:xfrm>
        </p:grpSpPr>
        <p:sp>
          <p:nvSpPr>
            <p:cNvPr id="155" name="Freeform 112"/>
            <p:cNvSpPr/>
            <p:nvPr/>
          </p:nvSpPr>
          <p:spPr>
            <a:xfrm>
              <a:off x="1604880" y="630864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3"/>
            <p:cNvSpPr/>
            <p:nvPr/>
          </p:nvSpPr>
          <p:spPr>
            <a:xfrm rot="11067600">
              <a:off x="1474560" y="6399000"/>
              <a:ext cx="25308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4"/>
            <p:cNvSpPr/>
            <p:nvPr/>
          </p:nvSpPr>
          <p:spPr>
            <a:xfrm rot="11067600">
              <a:off x="1598760" y="634032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15"/>
          <p:cNvGrpSpPr/>
          <p:nvPr/>
        </p:nvGrpSpPr>
        <p:grpSpPr>
          <a:xfrm>
            <a:off x="-16560" y="6021360"/>
            <a:ext cx="682920" cy="564120"/>
            <a:chOff x="-16560" y="6021360"/>
            <a:chExt cx="682920" cy="564120"/>
          </a:xfrm>
        </p:grpSpPr>
        <p:sp>
          <p:nvSpPr>
            <p:cNvPr id="159" name="Freeform 116"/>
            <p:cNvSpPr/>
            <p:nvPr/>
          </p:nvSpPr>
          <p:spPr>
            <a:xfrm>
              <a:off x="194400" y="602136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7"/>
            <p:cNvSpPr/>
            <p:nvPr/>
          </p:nvSpPr>
          <p:spPr>
            <a:xfrm rot="11067600">
              <a:off x="0" y="611892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8"/>
            <p:cNvSpPr/>
            <p:nvPr/>
          </p:nvSpPr>
          <p:spPr>
            <a:xfrm rot="11067600">
              <a:off x="185760" y="6055920"/>
              <a:ext cx="46116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19"/>
          <p:cNvGrpSpPr/>
          <p:nvPr/>
        </p:nvGrpSpPr>
        <p:grpSpPr>
          <a:xfrm>
            <a:off x="1316880" y="5950080"/>
            <a:ext cx="682920" cy="564120"/>
            <a:chOff x="1316880" y="5950080"/>
            <a:chExt cx="682920" cy="564120"/>
          </a:xfrm>
        </p:grpSpPr>
        <p:sp>
          <p:nvSpPr>
            <p:cNvPr id="163" name="Freeform 120"/>
            <p:cNvSpPr/>
            <p:nvPr/>
          </p:nvSpPr>
          <p:spPr>
            <a:xfrm>
              <a:off x="1527840" y="595008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1"/>
            <p:cNvSpPr/>
            <p:nvPr/>
          </p:nvSpPr>
          <p:spPr>
            <a:xfrm rot="11067600">
              <a:off x="1333440" y="604764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2"/>
            <p:cNvSpPr/>
            <p:nvPr/>
          </p:nvSpPr>
          <p:spPr>
            <a:xfrm rot="11067600">
              <a:off x="1519200" y="5984640"/>
              <a:ext cx="46116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23"/>
          <p:cNvGrpSpPr/>
          <p:nvPr/>
        </p:nvGrpSpPr>
        <p:grpSpPr>
          <a:xfrm>
            <a:off x="2468880" y="6354720"/>
            <a:ext cx="466200" cy="514080"/>
            <a:chOff x="2468880" y="6354720"/>
            <a:chExt cx="466200" cy="514080"/>
          </a:xfrm>
        </p:grpSpPr>
        <p:sp>
          <p:nvSpPr>
            <p:cNvPr id="167" name="Freeform 124"/>
            <p:cNvSpPr/>
            <p:nvPr/>
          </p:nvSpPr>
          <p:spPr>
            <a:xfrm>
              <a:off x="2614320" y="635472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5"/>
            <p:cNvSpPr/>
            <p:nvPr/>
          </p:nvSpPr>
          <p:spPr>
            <a:xfrm rot="11067600">
              <a:off x="2484360" y="644508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6"/>
            <p:cNvSpPr/>
            <p:nvPr/>
          </p:nvSpPr>
          <p:spPr>
            <a:xfrm rot="11067600">
              <a:off x="2608560" y="638640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27"/>
          <p:cNvGrpSpPr/>
          <p:nvPr/>
        </p:nvGrpSpPr>
        <p:grpSpPr>
          <a:xfrm>
            <a:off x="2684880" y="5300640"/>
            <a:ext cx="466200" cy="514080"/>
            <a:chOff x="2684880" y="5300640"/>
            <a:chExt cx="466200" cy="514080"/>
          </a:xfrm>
        </p:grpSpPr>
        <p:sp>
          <p:nvSpPr>
            <p:cNvPr id="171" name="Freeform 128"/>
            <p:cNvSpPr/>
            <p:nvPr/>
          </p:nvSpPr>
          <p:spPr>
            <a:xfrm>
              <a:off x="2830320" y="530064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9"/>
            <p:cNvSpPr/>
            <p:nvPr/>
          </p:nvSpPr>
          <p:spPr>
            <a:xfrm rot="11067600">
              <a:off x="2700360" y="539100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0"/>
            <p:cNvSpPr/>
            <p:nvPr/>
          </p:nvSpPr>
          <p:spPr>
            <a:xfrm rot="11067600">
              <a:off x="2824560" y="533232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31"/>
          <p:cNvGrpSpPr/>
          <p:nvPr/>
        </p:nvGrpSpPr>
        <p:grpSpPr>
          <a:xfrm>
            <a:off x="233640" y="6310440"/>
            <a:ext cx="538920" cy="559800"/>
            <a:chOff x="233640" y="6310440"/>
            <a:chExt cx="538920" cy="559800"/>
          </a:xfrm>
        </p:grpSpPr>
        <p:sp>
          <p:nvSpPr>
            <p:cNvPr id="175" name="Freeform 132"/>
            <p:cNvSpPr/>
            <p:nvPr/>
          </p:nvSpPr>
          <p:spPr>
            <a:xfrm>
              <a:off x="402120" y="6310440"/>
              <a:ext cx="6048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3"/>
            <p:cNvSpPr/>
            <p:nvPr/>
          </p:nvSpPr>
          <p:spPr>
            <a:xfrm rot="11067600">
              <a:off x="250560" y="6408360"/>
              <a:ext cx="2941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4"/>
            <p:cNvSpPr/>
            <p:nvPr/>
          </p:nvSpPr>
          <p:spPr>
            <a:xfrm rot="11067600">
              <a:off x="394560" y="6344640"/>
              <a:ext cx="35820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35"/>
          <p:cNvGrpSpPr/>
          <p:nvPr/>
        </p:nvGrpSpPr>
        <p:grpSpPr>
          <a:xfrm>
            <a:off x="1388520" y="5373720"/>
            <a:ext cx="682920" cy="564120"/>
            <a:chOff x="1388520" y="5373720"/>
            <a:chExt cx="682920" cy="564120"/>
          </a:xfrm>
        </p:grpSpPr>
        <p:sp>
          <p:nvSpPr>
            <p:cNvPr id="179" name="Freeform 136"/>
            <p:cNvSpPr/>
            <p:nvPr/>
          </p:nvSpPr>
          <p:spPr>
            <a:xfrm>
              <a:off x="1599480" y="537372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7"/>
            <p:cNvSpPr/>
            <p:nvPr/>
          </p:nvSpPr>
          <p:spPr>
            <a:xfrm rot="11067600">
              <a:off x="1405080" y="547128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8"/>
            <p:cNvSpPr/>
            <p:nvPr/>
          </p:nvSpPr>
          <p:spPr>
            <a:xfrm rot="11067600">
              <a:off x="1590840" y="5408280"/>
              <a:ext cx="46116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9"/>
          <p:cNvGrpSpPr/>
          <p:nvPr/>
        </p:nvGrpSpPr>
        <p:grpSpPr>
          <a:xfrm>
            <a:off x="2036160" y="5589720"/>
            <a:ext cx="682920" cy="564120"/>
            <a:chOff x="2036160" y="5589720"/>
            <a:chExt cx="682920" cy="564120"/>
          </a:xfrm>
        </p:grpSpPr>
        <p:sp>
          <p:nvSpPr>
            <p:cNvPr id="183" name="Freeform 140"/>
            <p:cNvSpPr/>
            <p:nvPr/>
          </p:nvSpPr>
          <p:spPr>
            <a:xfrm>
              <a:off x="2247120" y="558972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1"/>
            <p:cNvSpPr/>
            <p:nvPr/>
          </p:nvSpPr>
          <p:spPr>
            <a:xfrm rot="11067600">
              <a:off x="2052720" y="568728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2"/>
            <p:cNvSpPr/>
            <p:nvPr/>
          </p:nvSpPr>
          <p:spPr>
            <a:xfrm rot="11067600">
              <a:off x="2238480" y="5624280"/>
              <a:ext cx="46116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3"/>
          <p:cNvGrpSpPr/>
          <p:nvPr/>
        </p:nvGrpSpPr>
        <p:grpSpPr>
          <a:xfrm>
            <a:off x="2034360" y="5373720"/>
            <a:ext cx="683640" cy="564120"/>
            <a:chOff x="2034360" y="5373720"/>
            <a:chExt cx="683640" cy="564120"/>
          </a:xfrm>
        </p:grpSpPr>
        <p:sp>
          <p:nvSpPr>
            <p:cNvPr id="187" name="Freeform 144"/>
            <p:cNvSpPr/>
            <p:nvPr/>
          </p:nvSpPr>
          <p:spPr>
            <a:xfrm>
              <a:off x="2245320" y="5373720"/>
              <a:ext cx="7812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5"/>
            <p:cNvSpPr/>
            <p:nvPr/>
          </p:nvSpPr>
          <p:spPr>
            <a:xfrm rot="11067600">
              <a:off x="2050920" y="547128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6"/>
            <p:cNvSpPr/>
            <p:nvPr/>
          </p:nvSpPr>
          <p:spPr>
            <a:xfrm rot="11067600">
              <a:off x="2237040" y="5408280"/>
              <a:ext cx="46152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47"/>
          <p:cNvGrpSpPr/>
          <p:nvPr/>
        </p:nvGrpSpPr>
        <p:grpSpPr>
          <a:xfrm>
            <a:off x="2035440" y="6354720"/>
            <a:ext cx="466200" cy="514080"/>
            <a:chOff x="2035440" y="6354720"/>
            <a:chExt cx="466200" cy="514080"/>
          </a:xfrm>
        </p:grpSpPr>
        <p:sp>
          <p:nvSpPr>
            <p:cNvPr id="191" name="Freeform 148"/>
            <p:cNvSpPr/>
            <p:nvPr/>
          </p:nvSpPr>
          <p:spPr>
            <a:xfrm>
              <a:off x="2180880" y="6354720"/>
              <a:ext cx="52200" cy="11412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9"/>
            <p:cNvSpPr/>
            <p:nvPr/>
          </p:nvSpPr>
          <p:spPr>
            <a:xfrm rot="11067600">
              <a:off x="2050920" y="6445080"/>
              <a:ext cx="253440" cy="40680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0"/>
            <p:cNvSpPr/>
            <p:nvPr/>
          </p:nvSpPr>
          <p:spPr>
            <a:xfrm rot="11067600">
              <a:off x="2175120" y="6386400"/>
              <a:ext cx="308520" cy="4708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51"/>
          <p:cNvGrpSpPr/>
          <p:nvPr/>
        </p:nvGrpSpPr>
        <p:grpSpPr>
          <a:xfrm>
            <a:off x="2396520" y="5734080"/>
            <a:ext cx="682920" cy="564120"/>
            <a:chOff x="2396520" y="5734080"/>
            <a:chExt cx="682920" cy="564120"/>
          </a:xfrm>
        </p:grpSpPr>
        <p:sp>
          <p:nvSpPr>
            <p:cNvPr id="195" name="Freeform 152"/>
            <p:cNvSpPr/>
            <p:nvPr/>
          </p:nvSpPr>
          <p:spPr>
            <a:xfrm>
              <a:off x="2607480" y="5734080"/>
              <a:ext cx="77760" cy="124200"/>
            </a:xfrm>
            <a:prstGeom prst="pie">
              <a:avLst/>
            </a:prstGeom>
            <a:noFill/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3"/>
            <p:cNvSpPr/>
            <p:nvPr/>
          </p:nvSpPr>
          <p:spPr>
            <a:xfrm rot="11067600">
              <a:off x="2413080" y="5831640"/>
              <a:ext cx="378720" cy="4424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4"/>
            <p:cNvSpPr/>
            <p:nvPr/>
          </p:nvSpPr>
          <p:spPr>
            <a:xfrm rot="11067600">
              <a:off x="2598840" y="5768640"/>
              <a:ext cx="461160" cy="51228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cc"/>
                </a:gs>
              </a:gsLst>
              <a:lin ang="1593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55"/>
          <p:cNvSpPr/>
          <p:nvPr/>
        </p:nvSpPr>
        <p:spPr>
          <a:xfrm>
            <a:off x="4356000" y="3500280"/>
            <a:ext cx="2160720" cy="335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6"/>
          <p:cNvSpPr/>
          <p:nvPr/>
        </p:nvSpPr>
        <p:spPr>
          <a:xfrm>
            <a:off x="6516720" y="4941720"/>
            <a:ext cx="36036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57" descr="猴子图"/>
          <p:cNvPicPr/>
          <p:nvPr/>
        </p:nvPicPr>
        <p:blipFill>
          <a:blip r:embed="rId2"/>
          <a:srcRect l="5119" t="3815" r="41340" b="21225"/>
          <a:stretch/>
        </p:blipFill>
        <p:spPr>
          <a:xfrm>
            <a:off x="0" y="0"/>
            <a:ext cx="6516720" cy="5300640"/>
          </a:xfrm>
          <a:prstGeom prst="rect">
            <a:avLst/>
          </a:prstGeom>
          <a:ln w="0">
            <a:noFill/>
          </a:ln>
        </p:spPr>
      </p:pic>
      <p:sp>
        <p:nvSpPr>
          <p:cNvPr id="201" name="WordArt 158"/>
          <p:cNvSpPr txBox="1"/>
          <p:nvPr/>
        </p:nvSpPr>
        <p:spPr>
          <a:xfrm>
            <a:off x="5076720" y="0"/>
            <a:ext cx="4067280" cy="41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猴王分桃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的故事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0"/>
            <a:ext cx="83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猴 王 分 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花果山风景秀丽，气候宜人，那里住着一群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。有一天，猴王让一只小猴分桃子。猴王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桃子，平均分给</a:t>
            </a:r>
            <a:r>
              <a:rPr b="1" lang="en-US" sz="2800" spc="-1" strike="noStrike">
                <a:solidFill>
                  <a:srgbClr val="33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猴吧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猴听了，连连摇头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太少了，太少了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猴王又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好吧，给你</a:t>
            </a:r>
            <a:r>
              <a:rPr b="1" lang="en-US" sz="2800" spc="-1" strike="noStrike">
                <a:solidFill>
                  <a:srgbClr val="ff0d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桃子，平均分给</a:t>
            </a:r>
            <a:r>
              <a:rPr b="1" lang="en-US" sz="2800" spc="-1" strike="noStrike">
                <a:solidFill>
                  <a:srgbClr val="3399ff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猴，怎么样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猴子得寸进尺，挠挠头皮，试探地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王，再多给点行不行啊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猴王一拍桌子，显示出慷慨大度的样子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好吧，给你</a:t>
            </a:r>
            <a:r>
              <a:rPr b="1" lang="en-US" sz="2800" spc="-1" strike="noStrike">
                <a:solidFill>
                  <a:srgbClr val="ff0d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桃子，平均分给</a:t>
            </a:r>
            <a:r>
              <a:rPr b="1" lang="en-US" sz="2800" spc="-1" strike="noStrike">
                <a:solidFill>
                  <a:srgbClr val="3399ff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小猴，你总该满意了吧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小猴子连忙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了、行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！猴王听了哈哈大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689840" y="5121360"/>
            <a:ext cx="47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ahoma"/>
                <a:ea typeface="楷体_GB2312"/>
              </a:rPr>
              <a:t>同学们，你知道猴王为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ahoma"/>
                <a:ea typeface="楷体_GB2312"/>
              </a:rPr>
              <a:t>么笑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619280" y="134136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4÷2=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7640" y="2637000"/>
            <a:ext cx="60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40÷20=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619280" y="4076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宋体"/>
              </a:rPr>
              <a:t>400÷200=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90800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190800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3059280" y="220500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3492360" y="3500280"/>
            <a:ext cx="79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900000" y="23493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扩大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059280" y="234936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扩大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13"/>
          <p:cNvSpPr txBox="1"/>
          <p:nvPr/>
        </p:nvSpPr>
        <p:spPr>
          <a:xfrm>
            <a:off x="1547640" y="404640"/>
            <a:ext cx="36576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观察比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观察、比较与总结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773360"/>
            <a:ext cx="86868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从上到下观察，被除数和除数是按照什么规律变化而商不变的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从下到上观察，被除数和除数是按照什么规律变化而商不变的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637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被除数和除数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同时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乘以或除以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相同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的数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0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除外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)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，商不变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>
            <a:hlinkClick r:id="" action="ppaction://hlinkshowjump?jump=firstslide"/>
          </p:cNvPr>
          <p:cNvSpPr/>
          <p:nvPr/>
        </p:nvSpPr>
        <p:spPr>
          <a:xfrm>
            <a:off x="7164360" y="664200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31948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908000" y="333360"/>
            <a:ext cx="68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40 ÷ 20  =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2484360" y="1268280"/>
            <a:ext cx="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716360" y="119700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340000" y="1341360"/>
            <a:ext cx="138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643280" y="1268280"/>
            <a:ext cx="13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6804000" y="134136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950160" y="134136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10348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0" y="5759280"/>
            <a:ext cx="87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这叫做商不变的规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火眼金睛辨对错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60 ÷ 30=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60÷10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÷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0÷10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 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4800÷ 400=48÷4       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500÷ 300=150÷3     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80  ÷ 70=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80 ×5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÷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70 ÷  5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（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450 ÷ 25=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450 ×  2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÷ 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25  ×  4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）（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7955280" y="15573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882200" y="21337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7949880" y="263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38836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604360" y="29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802800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824400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一分钟比赛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204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在一分钟内，你能写出多少道商是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的除法算式？比一比，看谁写得又对又多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1:56:58Z</dcterms:created>
  <dc:creator/>
  <dc:description/>
  <cp:keywords/>
  <dc:language>en-US</dc:language>
  <cp:lastModifiedBy>Administrator</cp:lastModifiedBy>
  <dcterms:modified xsi:type="dcterms:W3CDTF">2015-02-28T00:50:06Z</dcterms:modified>
  <cp:revision>20</cp:revision>
  <dc:subject/>
  <dc:title>幻灯片 1</dc:title>
</cp:coreProperties>
</file>